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14.jpeg" ContentType="image/jpeg"/>
  <Override PartName="/ppt/media/image8.png" ContentType="image/png"/>
  <Override PartName="/ppt/media/image17.wmf" ContentType="image/x-wmf"/>
  <Override PartName="/ppt/media/image9.png" ContentType="image/png"/>
  <Override PartName="/ppt/media/image23.png" ContentType="image/png"/>
  <Override PartName="/ppt/media/image13.jpeg" ContentType="image/jpeg"/>
  <Override PartName="/ppt/media/image30.png" ContentType="image/png"/>
  <Override PartName="/ppt/media/image5.png" ContentType="image/png"/>
  <Override PartName="/ppt/media/image28.png" ContentType="image/png"/>
  <Override PartName="/ppt/media/image6.wmf" ContentType="image/x-wmf"/>
  <Override PartName="/ppt/media/image10.png" ContentType="image/png"/>
  <Override PartName="/ppt/media/image4.jpeg" ContentType="image/jpe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jpeg" ContentType="image/jpeg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AADB-1E44-4268-A23A-C30BAF508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PE is in Greenw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10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895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895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10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10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10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5A4FE-41AE-4408-B904-85288F60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1A2B2-3C08-48D6-8166-9128E6FC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5A7CF-1BD3-4B90-AAF7-36CAC0F9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F39368-AABE-440C-8F0D-930E83599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DA702-6DE8-440A-8EB8-BA53CBF1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434D5A-19B9-42EB-AB3B-05B24DCE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A5641-8FF6-41D2-979B-828920A41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56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8EE1E5-694F-4967-A587-8753B8FC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810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211E6-74A6-4A5B-8F47-69C34B8C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71600" y="3810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78EDD2-6E8D-4CEB-B36E-914FAF94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56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C6AB2-A9BE-4A57-8278-D1FB4F8A6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5560" y="2895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99880" y="2895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71600" y="3810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5560" y="3810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699880" y="38109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63E48-5FC9-499B-9FF0-28B0A77E6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681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109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95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109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762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905120" y="6553080"/>
            <a:ext cx="6781680" cy="0"/>
          </a:xfrm>
          <a:prstGeom prst="line">
            <a:avLst/>
          </a:prstGeom>
          <a:ln w="63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248520" y="6553080"/>
            <a:ext cx="251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Decision Models Team 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305D-6508-4E05-8AC9-5FFC60A04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5964120"/>
            <a:ext cx="9144000" cy="8938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8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9.wmf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28800" y="3352680"/>
            <a:ext cx="5562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gatha Bochenek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ra Del Margo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Marina Girshi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ynthia Grav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tha Seenivasa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ria/Yan Song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1120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atching the Perfect Job with the Perfect Apartmen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Free Time Inpu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otal hours in the week minus work hours minus weekly commute tim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stimated work hours based on posi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d Hopstop to calculate door to door commute tim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Apartment Utility Inpu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omponents of Utility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eighborhood:  0-3 based on preferenc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q. footage:  500 sq ft = 0; 1 unit utility for each additional 100 sq f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oorman:  1 unit utility for doorma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levator:  1 unit utility for elevator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How to Measure the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Apartment Utility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828800" y="1676520"/>
            <a:ext cx="6939000" cy="4572000"/>
            <a:chOff x="1828800" y="1676520"/>
            <a:chExt cx="6939000" cy="4572000"/>
          </a:xfrm>
        </p:grpSpPr>
        <p:graphicFrame>
          <p:nvGraphicFramePr>
            <p:cNvPr id="146" name=""/>
            <p:cNvGraphicFramePr/>
            <p:nvPr/>
          </p:nvGraphicFramePr>
          <p:xfrm>
            <a:off x="6032520" y="4267440"/>
            <a:ext cx="2573280" cy="1981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032520" y="4267440"/>
                      <a:ext cx="257328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8" name=""/>
            <p:cNvGraphicFramePr/>
            <p:nvPr/>
          </p:nvGraphicFramePr>
          <p:xfrm>
            <a:off x="5824440" y="1752840"/>
            <a:ext cx="2943360" cy="17524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824440" y="1752840"/>
                      <a:ext cx="2943360" cy="175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" name=""/>
            <p:cNvGraphicFramePr/>
            <p:nvPr/>
          </p:nvGraphicFramePr>
          <p:xfrm>
            <a:off x="1828800" y="4267440"/>
            <a:ext cx="2890800" cy="183492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828800" y="4267440"/>
                      <a:ext cx="2890800" cy="1834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2" name=""/>
            <p:cNvGraphicFramePr/>
            <p:nvPr/>
          </p:nvGraphicFramePr>
          <p:xfrm>
            <a:off x="1900080" y="1676520"/>
            <a:ext cx="3167280" cy="1981080"/>
          </p:xfrm>
          <a:graphic>
            <a:graphicData uri="http://schemas.openxmlformats.org/presentationml/2006/ole">
              <p:oleObj progId="Excel.Sheet.12" r:id="rId7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900080" y="1676520"/>
                      <a:ext cx="316728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4" name=""/>
            <p:cNvSpPr/>
            <p:nvPr/>
          </p:nvSpPr>
          <p:spPr>
            <a:xfrm rot="16200000">
              <a:off x="5253120" y="2438640"/>
              <a:ext cx="457200" cy="4572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19400" y="3733920"/>
              <a:ext cx="457200" cy="4572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rot="18529800">
              <a:off x="5328720" y="3733920"/>
              <a:ext cx="457200" cy="45720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762120" y="441972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410080"/>
            <a:ext cx="152640" cy="152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71600" y="579132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66680" y="6324480"/>
            <a:ext cx="152640" cy="15264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3000" y="350532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505320"/>
            <a:ext cx="15264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6248520"/>
            <a:ext cx="152280" cy="152280"/>
          </a:xfrm>
          <a:prstGeom prst="star5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617220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eighborho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9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998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ake Home Income Input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ake Home Incom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nthly salary = base + expected bonus – rent - commute cost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mute cost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$76 subway only (Manhattan jobs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$308 subway + Metro North pass  (Greenwich job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Objective Func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o maximize take-home income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 calculate take-home income, we multiply the Decision Matrix that consists of binary variables (1 if she chooses an apartment and 0 if she doesn’t) by a the Take-Home Income matrix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te: multiplying 0 by any take-home income has no effect on the overall objective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straint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52480" y="14940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Decision Variables must be binary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The sum of all Decision Variables must equal 1 i.e she can choose only one apartment and only 1 job.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Free time + work time cannot exceed 24 hours each day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99"/>
                </a:solidFill>
                <a:latin typeface="Arial"/>
              </a:rPr>
              <a:t>Utility of the chosen apartment must be greater than or equal to Jane’s minimum required utility (input)</a:t>
            </a:r>
            <a:endParaRPr b="0" lang="en-US" sz="2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Excel Mode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743200" y="1295280"/>
          <a:ext cx="4495680" cy="17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295280"/>
                    <a:ext cx="449568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2133720" y="3124080"/>
            <a:ext cx="5943600" cy="3349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828440" y="274680"/>
            <a:ext cx="6705720" cy="17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Running Premium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Solver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666880" y="2359080"/>
            <a:ext cx="5105520" cy="29750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lution #1: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590920" y="2176560"/>
            <a:ext cx="5410080" cy="87156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2364840" y="3344760"/>
            <a:ext cx="5864760" cy="2523960"/>
            <a:chOff x="2364840" y="3344760"/>
            <a:chExt cx="5864760" cy="2523960"/>
          </a:xfrm>
        </p:grpSpPr>
        <p:pic>
          <p:nvPicPr>
            <p:cNvPr id="186" name="" descr=""/>
            <p:cNvPicPr/>
            <p:nvPr/>
          </p:nvPicPr>
          <p:blipFill>
            <a:blip r:embed="rId2"/>
            <a:stretch/>
          </p:blipFill>
          <p:spPr>
            <a:xfrm>
              <a:off x="2543040" y="3877920"/>
              <a:ext cx="1419480" cy="14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2364840" y="5348160"/>
              <a:ext cx="1823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18 Ho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" descr=""/>
            <p:cNvPicPr/>
            <p:nvPr/>
          </p:nvPicPr>
          <p:blipFill>
            <a:blip r:embed="rId3"/>
            <a:stretch/>
          </p:blipFill>
          <p:spPr>
            <a:xfrm>
              <a:off x="5257800" y="3817800"/>
              <a:ext cx="297180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5334120" y="5348160"/>
              <a:ext cx="2895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t Utility: 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36280" y="3344760"/>
              <a:ext cx="27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er East</a:t>
              </a: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4046400" y="571500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  <a:ea typeface="Arial"/>
              </a:rPr>
              <a:t>$7,23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121932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High free hours &amp; high apt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8273880" y="76320"/>
            <a:ext cx="79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lution #2: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046760" y="571500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  <a:ea typeface="Arial"/>
              </a:rPr>
              <a:t>$12,53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28800" y="121932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ow free hours &amp; high apt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04760" y="3732120"/>
            <a:ext cx="3219480" cy="2136600"/>
            <a:chOff x="1904760" y="3732120"/>
            <a:chExt cx="3219480" cy="2136600"/>
          </a:xfrm>
        </p:grpSpPr>
        <p:sp>
          <p:nvSpPr>
            <p:cNvPr id="198" name=""/>
            <p:cNvSpPr/>
            <p:nvPr/>
          </p:nvSpPr>
          <p:spPr>
            <a:xfrm>
              <a:off x="2732040" y="5348160"/>
              <a:ext cx="163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9 Ho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2838240" y="3732120"/>
              <a:ext cx="1371600" cy="11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3070440" y="4874760"/>
              <a:ext cx="91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d6a"/>
                  </a:solidFill>
                  <a:latin typeface=" serif"/>
                  <a:ea typeface="Arial"/>
                </a:rPr>
                <a:t>ALTUS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904760" y="510300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9999"/>
                  </a:solidFill>
                  <a:latin typeface=" serif"/>
                  <a:ea typeface="Arial"/>
                </a:rPr>
                <a:t>C A P I T A L  P A R T N E R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5695920" y="3124080"/>
            <a:ext cx="2286000" cy="2706480"/>
            <a:chOff x="5695920" y="3124080"/>
            <a:chExt cx="2286000" cy="2706480"/>
          </a:xfrm>
        </p:grpSpPr>
        <p:sp>
          <p:nvSpPr>
            <p:cNvPr id="203" name=""/>
            <p:cNvSpPr/>
            <p:nvPr/>
          </p:nvSpPr>
          <p:spPr>
            <a:xfrm>
              <a:off x="6154200" y="531000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tility: 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97360" y="3124080"/>
              <a:ext cx="21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st Vill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5695920" y="3579480"/>
              <a:ext cx="2286000" cy="1716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2590920" y="2176560"/>
            <a:ext cx="5410080" cy="8715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8273880" y="76320"/>
            <a:ext cx="79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his is Jane Stern…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580920" y="1600200"/>
            <a:ext cx="5410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 is a graduating MBA2 with 3 job offer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merican Expres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Lehman Brother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333399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tus Capital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ll great offers, but Jane doesn’t know which job to take!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1640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Solution #3: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046760" y="5715000"/>
            <a:ext cx="265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8000"/>
                </a:solidFill>
                <a:latin typeface="Arial"/>
                <a:ea typeface="Arial"/>
              </a:rPr>
              <a:t>$13,63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28800" y="121932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Low free hours &amp; low apt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1904760" y="3732120"/>
            <a:ext cx="3219480" cy="2136600"/>
            <a:chOff x="1904760" y="3732120"/>
            <a:chExt cx="3219480" cy="2136600"/>
          </a:xfrm>
        </p:grpSpPr>
        <p:sp>
          <p:nvSpPr>
            <p:cNvPr id="212" name=""/>
            <p:cNvSpPr/>
            <p:nvPr/>
          </p:nvSpPr>
          <p:spPr>
            <a:xfrm>
              <a:off x="2732040" y="5348160"/>
              <a:ext cx="1630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9 Hour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" descr=""/>
            <p:cNvPicPr/>
            <p:nvPr/>
          </p:nvPicPr>
          <p:blipFill>
            <a:blip r:embed="rId1"/>
            <a:stretch/>
          </p:blipFill>
          <p:spPr>
            <a:xfrm>
              <a:off x="2838240" y="3732120"/>
              <a:ext cx="1371600" cy="111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070440" y="4874760"/>
              <a:ext cx="91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232d6a"/>
                  </a:solidFill>
                  <a:latin typeface=" serif"/>
                  <a:ea typeface="Arial"/>
                </a:rPr>
                <a:t>ALTUS</a:t>
              </a:r>
              <a:br>
                <a:rPr sz="1800"/>
              </a:b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04760" y="5103000"/>
              <a:ext cx="321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999999"/>
                  </a:solidFill>
                  <a:latin typeface=" serif"/>
                  <a:ea typeface="Arial"/>
                </a:rPr>
                <a:t>C A P I T A L  P A R T N E R 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2600" y="3124080"/>
            <a:ext cx="2771640" cy="2706480"/>
            <a:chOff x="5412600" y="3124080"/>
            <a:chExt cx="2771640" cy="2706480"/>
          </a:xfrm>
        </p:grpSpPr>
        <p:sp>
          <p:nvSpPr>
            <p:cNvPr id="217" name=""/>
            <p:cNvSpPr/>
            <p:nvPr/>
          </p:nvSpPr>
          <p:spPr>
            <a:xfrm>
              <a:off x="6096960" y="5310000"/>
              <a:ext cx="144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tility: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412600" y="3124080"/>
              <a:ext cx="2771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er East Sid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2"/>
            <a:stretch/>
          </p:blipFill>
          <p:spPr>
            <a:xfrm>
              <a:off x="5638680" y="3619080"/>
              <a:ext cx="2286000" cy="1714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2590920" y="2176560"/>
            <a:ext cx="5410080" cy="8715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8273880" y="76320"/>
            <a:ext cx="79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Conclus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Jane wants a lot of free time, she must work at AMEX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f Jane wants a lot of money, she must work at the Altus Capita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ehman is never optimal in an average or good year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8273880" y="76320"/>
            <a:ext cx="79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Limitation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erfect data:  Compensation varies based on performanc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ly customized to a certain point: limited amount of inpu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ndard Simplex LP does not provide sensitivity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8273880" y="76320"/>
            <a:ext cx="7938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218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Questions?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Along with the job decision: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52480" y="1371240"/>
            <a:ext cx="6934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t’s also time for Jane to move. Jane and her broker have found 12 different apartments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l great apartments but Jane doesn’t know which apartment to take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981080" y="3090960"/>
            <a:ext cx="6934320" cy="2014200"/>
            <a:chOff x="1981080" y="3090960"/>
            <a:chExt cx="6934320" cy="2014200"/>
          </a:xfrm>
        </p:grpSpPr>
        <p:pic>
          <p:nvPicPr>
            <p:cNvPr id="99" name="" descr="Stock Photo titled: Brooklyn Bridge and Manhattan skyline New York City"/>
            <p:cNvPicPr/>
            <p:nvPr/>
          </p:nvPicPr>
          <p:blipFill>
            <a:blip r:embed="rId1"/>
            <a:stretch/>
          </p:blipFill>
          <p:spPr>
            <a:xfrm>
              <a:off x="4419720" y="3243240"/>
              <a:ext cx="18288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1981080" y="3090960"/>
              <a:ext cx="251460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E 78th and 2nd 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E 96th and 2nd 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124 W. 60th Stre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W. 88th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W 51st and 7th Av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E 58th and 2nd 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754 Greenwich St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24480" y="3090960"/>
              <a:ext cx="259092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117 W. 13th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124 W. 60th Stree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W. 88th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40 Gold Street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472 Pearl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57 Rivington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333399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205 Allen Stre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80880" y="3505320"/>
            <a:ext cx="1143000" cy="2971800"/>
            <a:chOff x="380880" y="3505320"/>
            <a:chExt cx="1143000" cy="2971800"/>
          </a:xfrm>
        </p:grpSpPr>
        <p:sp>
          <p:nvSpPr>
            <p:cNvPr id="103" name=""/>
            <p:cNvSpPr/>
            <p:nvPr/>
          </p:nvSpPr>
          <p:spPr>
            <a:xfrm>
              <a:off x="762120" y="4419720"/>
              <a:ext cx="152280" cy="15228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09480" y="5410080"/>
              <a:ext cx="152640" cy="152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371600" y="5791320"/>
              <a:ext cx="152280" cy="15228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66680" y="6324480"/>
              <a:ext cx="152640" cy="15264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" bIns="4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143000" y="3505320"/>
              <a:ext cx="152280" cy="15228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0880" y="3505320"/>
              <a:ext cx="152640" cy="152280"/>
            </a:xfrm>
            <a:prstGeom prst="star5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Jane Stern is indecisive!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1144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he needs a dynamic tool to help her make the optimal decisio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Which job offer and apartment should she take to maximize her income?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17179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Total Compensation Generated by Crystal Ball</a:t>
            </a:r>
            <a:endParaRPr b="1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52480" y="2004480"/>
            <a:ext cx="6934320" cy="21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onuses follow log-normal distribu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073240" y="2743200"/>
          <a:ext cx="6356520" cy="2789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73240" y="2743200"/>
                    <a:ext cx="6356520" cy="27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133720" y="563868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Source: OCD Web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Total Compensation Results</a:t>
            </a:r>
            <a:endParaRPr b="1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3962520" cy="2141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2617920"/>
            <a:ext cx="4038480" cy="21826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800600" y="4294080"/>
            <a:ext cx="4038480" cy="21830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828800" y="3045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Total Compensation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80720" y="2133720"/>
            <a:ext cx="70866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The Economy Matters!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05120" y="3168720"/>
          <a:ext cx="6933960" cy="176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168720"/>
                    <a:ext cx="6933960" cy="176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宋体"/>
              </a:rPr>
              <a:t>Our Model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305400" y="1371600"/>
          <a:ext cx="245772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371600"/>
                    <a:ext cx="245772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1" name="" descr="photo of 1871 House Vacation Rentals, New York, New York"/>
          <p:cNvPicPr/>
          <p:nvPr/>
        </p:nvPicPr>
        <p:blipFill>
          <a:blip r:embed="rId3"/>
          <a:stretch/>
        </p:blipFill>
        <p:spPr>
          <a:xfrm>
            <a:off x="4343400" y="1676520"/>
            <a:ext cx="1801800" cy="1981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063880" y="2438280"/>
            <a:ext cx="2050920" cy="16858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3124080" y="4343400"/>
            <a:ext cx="2540160" cy="19177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440" y="274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Model Inputs</a:t>
            </a:r>
            <a:endParaRPr b="1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75248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Jane input’s the following info: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n # free hours per work da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ax # work days per week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in apartment utilit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odel will give Jane the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optimal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job and apartment combination that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aximiz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take home income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8305920" y="76320"/>
            <a:ext cx="8222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2:31:28Z</dcterms:created>
  <dc:creator>Mara Del Margo</dc:creator>
  <dc:description/>
  <dc:language>en-US</dc:language>
  <cp:lastModifiedBy>Mara Del Margo</cp:lastModifiedBy>
  <dcterms:modified xsi:type="dcterms:W3CDTF">2006-12-08T17:35:10Z</dcterms:modified>
  <cp:revision>40</cp:revision>
  <dc:subject/>
  <dc:title>Slide 1</dc:title>
</cp:coreProperties>
</file>